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BBEA-63B1-45D7-9B09-B08CC09D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B652-E246-4BD1-9396-06295DE7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21263-2DC9-43E2-9405-0BF5450B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B720-0751-4B18-9AB9-19180248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7F97-50DF-478F-8B40-D4FEF2AF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D1F5-1FCD-4320-BFCA-2796A804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7B44-4661-4E5E-BA63-8197A369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754D-45C8-46DC-B97D-C4A36F8F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512C-84D7-4FCD-A916-9D244330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EC7A-8F87-4F92-A058-B999421B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9FE5-671A-46B5-A540-137C0D94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4C52-18FA-4AC9-880F-C6E022BF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C63-9439-4245-9F48-3919562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BA1F-5EAE-45CA-8EEF-5FD4BFE0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1007-85C6-4F47-81EE-ACBF149A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4B0E-E056-40AF-B28E-5C085295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CD99-96C7-42D0-B4BA-8A56C1C4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8E54-9841-42C3-9141-0CC56A8E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204C-A3A0-4E91-9D11-15C5D1F1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2C1D-DA04-4E77-82E0-AAEA2348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A43D-987C-4648-AA58-3D92F775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EF12-E3A3-4C80-9898-524D45CD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6A1C-2B0C-4AFC-A66A-1F4374E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7B84-415C-4139-894A-C3B0755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B829-0468-4FFA-999D-241BD2525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E601-8AB7-4524-AD32-2FB6B466EF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“</a:t>
            </a:r>
            <a:r>
              <a:rPr b="1" lang="en-US" sz="6000" spc="-1" strike="noStrike">
                <a:solidFill>
                  <a:srgbClr val="e5e5ff"/>
                </a:solidFill>
                <a:latin typeface="바탕"/>
              </a:rPr>
              <a:t>Trifles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</a:rPr>
              <a:t>Susan Glaspe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2048040"/>
            <a:ext cx="3352680" cy="24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041480" cy="162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174680" cy="14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0" t="11249" r="0" b="0"/>
          <a:stretch/>
        </p:blipFill>
        <p:spPr>
          <a:xfrm>
            <a:off x="7238880" y="4754520"/>
            <a:ext cx="1511280" cy="1443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658280" y="457200"/>
            <a:ext cx="7840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6960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4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H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 Clooney and Julianne Mo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orge is a versatile actor and one of my favori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lianne is an excellent actress, middle aged and not as thin as Mrs. Pet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76520" y="35053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505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eriff &amp; Mrs. P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aron Eckhart and Nicole Kid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Aaron because he is middle aged and reminds me of a sheriff in this pic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Nicole because she is thin and wiry as Mrs. Peters is describ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unty Attorney, Mr. Hender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in Farr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Colin because he is young, has a professional appearance as a lawyer and he played a very good detective in the movie “Minority Report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324160" cy="3486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r. &amp; Mrs. Wr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hony Hopkins and Kathy B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hose Kathy because she is such a versatile actress and she was awesome in “Misery”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hony is one of my favorite actors.  He is very versatile and talented and I loved his characters in “Meet Joe Black” and “Silence of the Lambs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2503440" cy="310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2667240" cy="2819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ng Sel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ng Up” by Madonna – Because Mr. Wright was hung by a rop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ck and Tired” by Everclear – Obviously Mrs. Wright was sick and tired of her life with a hard man that degraded 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icture to Burn” by Taylor Swift – Because of the lyrics, “there’s no time for tears, I’m just sitting here planning my revenge, there’s nothing stopping me.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ue on Black” by Kenny Wayne Shepherd – Because of a line in the chorus,  “a dead man’s touch” and “wrong can’t be undone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n a Woman’s Fed Up” by R Kelly – Because she was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the images that I chose were mentioned in the play.  Mrs. Wright had a singing canary, canned preserves, quilted, and her husband was murdered by a rope.  The picture of the farm house was a realistic image especially because it had a second floor.  Mr. Wright was murdered in the upstairs bedroom.  I think these images would attract movie go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1:54:41Z</dcterms:created>
  <dc:creator>Lowe family</dc:creator>
  <dc:description/>
  <dc:language>en-US</dc:language>
  <cp:lastModifiedBy>Lowe family</cp:lastModifiedBy>
  <dcterms:modified xsi:type="dcterms:W3CDTF">2008-04-06T19:32:44Z</dcterms:modified>
  <cp:revision>21</cp:revision>
  <dc:subject/>
  <dc:title>“Trifles”</dc:title>
</cp:coreProperties>
</file>